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39B-51BC-4566-96F5-C6990E68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886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B31-C397-49B4-BFD1-8AE12AC3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886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886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286-F545-4BC1-A861-1474F67F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886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886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886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6F1F-AC84-4D33-9C4C-9FFB28B7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19AA-89CB-488B-B60D-AF09E44B7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7F9D-FE1A-47CD-A4AE-3AD6F808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EA40-B1CD-466C-BA53-DBDF5BB1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5A771-DE21-415A-B20C-16C9C53D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97A4-AA59-43D3-AA10-1B173085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09DF-477E-4C4D-A463-B61ABE2F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886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7CD0-E2F3-4D1B-A7C6-D3D2A413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AD01-F21F-4F06-9A9B-9586B33D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886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4DB5-89D4-44B1-8EAC-A62CC2C0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886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4051-47EE-41DB-9723-CCCAF5E7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886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D22F-A1F9-4560-9115-D350284C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886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886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FE2B-066A-477A-8E45-10F169FA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886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886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886640"/>
            <a:ext cx="250236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6B6A-23C4-4599-A85F-A9E82D2A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30F3-44D3-46D2-BA79-D351739E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085-3802-4460-8A64-AD5A2B22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8FE-C283-443F-ACF9-8298E7EA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F72-D377-44BC-BF7F-2B0670EC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886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D906-E729-4809-BC76-F6427B96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88664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AA57-2817-4930-8714-1AA572FC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886640"/>
            <a:ext cx="7772400" cy="265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843-1950-4F2F-8D12-769B19D9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20F4-E7FC-4282-9FB5-9B1F5C2D93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Freeform 9"/>
              <p:cNvSpPr/>
              <p:nvPr/>
            </p:nvSpPr>
            <p:spPr>
              <a:xfrm>
                <a:off x="449280" y="2328840"/>
                <a:ext cx="196920" cy="274680"/>
              </a:xfrm>
              <a:prstGeom prst="pie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d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8A77-6110-4673-9986-AAC515082274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Woodstock_poster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www.woodstock69.com/graphics/janis3.jpg" TargetMode="External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pter 30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TURBULENT SIX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dddddd"/>
                </a:solidFill>
                <a:latin typeface="Arial"/>
              </a:rPr>
              <a:t>America Past and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Eighth Ed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dddd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56204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aining Castro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uban Missile Cri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nnedy’s popularity soa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s gained in Congressional e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plomatic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ion of the Cold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s began naval, nuclear build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Content Placeholder 5" descr="cuban_missile_crisis.gif"/>
          <p:cNvPicPr/>
          <p:nvPr/>
        </p:nvPicPr>
        <p:blipFill>
          <a:blip r:embed="rId1"/>
          <a:srcRect l="-70987" t="0" r="-70987" b="0"/>
          <a:stretch/>
        </p:blipFill>
        <p:spPr>
          <a:xfrm>
            <a:off x="685800" y="8380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Content Placeholder 3" descr="Armwrestling.gif"/>
          <p:cNvPicPr/>
          <p:nvPr/>
        </p:nvPicPr>
        <p:blipFill>
          <a:blip r:embed="rId1"/>
          <a:srcRect l="-14515" t="0" r="-14515" b="0"/>
          <a:stretch/>
        </p:blipFill>
        <p:spPr>
          <a:xfrm>
            <a:off x="533520" y="533520"/>
            <a:ext cx="7772400" cy="55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Content Placeholder 3" descr="Cuban_Missile_Crisis-n6lk3r-d.jpg"/>
          <p:cNvPicPr/>
          <p:nvPr/>
        </p:nvPicPr>
        <p:blipFill>
          <a:blip r:embed="rId1"/>
          <a:srcRect l="-40913" t="0" r="-40913" b="0"/>
          <a:stretch/>
        </p:blipFill>
        <p:spPr>
          <a:xfrm>
            <a:off x="685800" y="6094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New Frontier at Ho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staff competent, activ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ks legislative and economic refo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FK the administration's greatest as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ongressional Obstac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controlled by Southern Democrat-Republican coa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alition blocked far-reaching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did not challenge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onomic Adv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stim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space and defense spend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l wage and price guidelin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2: U.S. Steel forced to lower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3: Tax cut spurred one of the longest sustained advances in U.S.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's economic policies doubled growth, cut unemploy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ving Slowly on Civil Righ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play civil rights legislation to avoid alienating Southern Democra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, 1961: Federal marshals sent to protect Birmingham freedom r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2: Federal marshals, National Guard to University of Mississip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3: Deputy attorney general faced down George Wallace at University of Alab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"I Have a Dream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, 1963: Violent police suppression of nonviolent protestors in Birmingh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nnedy intervened on side of bl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asked for civil-rights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, 1963: MLK led march on Washing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record disappointing to supporters, ultimately 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upreme Court and Refo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dants’ rights in criminal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Gideon vs. Wainwright, Miranda vs. Arizo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er social justice achie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ghts of the underprivileged pro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sent and free expression pro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ngle vs. Vita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anned school pr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DIVI7233652"/>
          <p:cNvPicPr/>
          <p:nvPr/>
        </p:nvPicPr>
        <p:blipFill>
          <a:blip r:embed="rId1"/>
          <a:stretch/>
        </p:blipFill>
        <p:spPr>
          <a:xfrm>
            <a:off x="2224080" y="609480"/>
            <a:ext cx="4732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"Let Us Continue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 22, 1963: JFK  assassinated by Lee Harvey Osw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ren Commission finds Oswald acted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ndon Johnson promised to continue Kennedy's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 ultimately exceeded Kennedy’s record on economic, racial e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ohnson in A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 image on televi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manager of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ring, 1964: Kennedy's tax cut pa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2: Civil Rights 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ned public segr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d Equal Employment Opportunity Commission to lessen job discr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ed voting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ed to include women in an attempt to reduce support for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lection of 196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4: Johnson launched “war on poverty”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grams included Head Start, Job Corps, Community Action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uraged self-hel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d pover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 won landslide election against Republican Barry Gold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Triumph of Refor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5:  Great Society legislation advanced beyond New D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i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ary and Secondary Edu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ting Rights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201924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frican American Voter Registration Before and After Passage of the Voting Rights Act of 196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DIVI7233663"/>
          <p:cNvPicPr/>
          <p:nvPr/>
        </p:nvPicPr>
        <p:blipFill>
          <a:blip r:embed="rId1"/>
          <a:stretch/>
        </p:blipFill>
        <p:spPr>
          <a:xfrm>
            <a:off x="1447920" y="2286000"/>
            <a:ext cx="601956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econd Great Migration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Theoretical Examp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DIVI7233676"/>
          <p:cNvPicPr/>
          <p:nvPr/>
        </p:nvPicPr>
        <p:blipFill>
          <a:blip r:embed="rId1"/>
          <a:stretch/>
        </p:blipFill>
        <p:spPr>
          <a:xfrm>
            <a:off x="2971800" y="1981080"/>
            <a:ext cx="2849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DIVI7233TB3001"/>
          <p:cNvPicPr/>
          <p:nvPr/>
        </p:nvPicPr>
        <p:blipFill>
          <a:blip r:embed="rId1"/>
          <a:stretch/>
        </p:blipFill>
        <p:spPr>
          <a:xfrm>
            <a:off x="1752480" y="533520"/>
            <a:ext cx="554040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ohnson Escalates the Vietnam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wkish foreign policy contin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5: Troops sent to Dominican Re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d not to "lose" Vietnam to the Commun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Vietnam Dilemm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4: Saigon on the verge of col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’s initial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sed to send American combat fo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itary advi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t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 1964: Gulf of Tonkin Resolution gives Johnson authority to escalate in Vietn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utheast Asia and the Vietnam W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DIVI7233664"/>
          <p:cNvPicPr/>
          <p:nvPr/>
        </p:nvPicPr>
        <p:blipFill>
          <a:blip r:embed="rId1"/>
          <a:stretch/>
        </p:blipFill>
        <p:spPr>
          <a:xfrm>
            <a:off x="3379680" y="1447920"/>
            <a:ext cx="26481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670572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ennedy Intensifies the Cold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F. Kennedy a "Cold Warrior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advisors supported U.S. hard line against Rus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sca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effort intended to bring Hanoi into peace negoti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’s “sins” in Vietnam were secrecy, deceit, and the refusing to admit he had committed U.S. to dangerous 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cted Great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lema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8: 500,000 U.S. troops in Vietn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of attrition increased American losses, enraged South Vietnam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son’s tactics failed to win the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gradually turned against the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.S. Troop Levels in Vietnam (as of Dec. 31 each year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Picture 6" descr="DIVI653"/>
          <p:cNvPicPr/>
          <p:nvPr/>
        </p:nvPicPr>
        <p:blipFill>
          <a:blip r:embed="rId1"/>
          <a:stretch/>
        </p:blipFill>
        <p:spPr>
          <a:xfrm>
            <a:off x="3200400" y="1981080"/>
            <a:ext cx="271620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ears of Turmoi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al unrest at ho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inued escalation of Vietnam w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tudent Revol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4: Student protest movement launched at Berke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d older generation’s materi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tnam War targe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despread cultural upri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for a Democratic Society fullest expression of student revo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testing the Vietnam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, 1967: 100,000 protesters besieged the Pentag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nstrations suppressed by a combination of force, conc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ultural Revolu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jection of older values thr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xual ex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t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ious challenge to hypocrisy of American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Draf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b/w 18 + 2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d disproportionate no. of poor whites and minorities to have to fight b/c of colleg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er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made it very easy for college students to avoid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rowing Prote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Lef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merged on college campuses to demand changes in Amer.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ed to protest war and spread protests throughout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rned draft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0,000 accused of draft off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tences of 1 to 5 y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,000 fled to Can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DraftCardBurningNYC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V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evision instrumental in bringing brutality of the war into people’s living ro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Lai Massacre – incident in which American troops killed from 175 to 400 Vietnamese villag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mary focus of protest movements was to demand U.S. withdrawal from Vietn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vietnamonte"/>
          <p:cNvPicPr/>
          <p:nvPr/>
        </p:nvPicPr>
        <p:blipFill>
          <a:blip r:embed="rId1"/>
          <a:stretch/>
        </p:blipFill>
        <p:spPr>
          <a:xfrm>
            <a:off x="4495680" y="457200"/>
            <a:ext cx="4229280" cy="2917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my-lai-pic-2"/>
          <p:cNvPicPr/>
          <p:nvPr/>
        </p:nvPicPr>
        <p:blipFill>
          <a:blip r:embed="rId2"/>
          <a:stretch/>
        </p:blipFill>
        <p:spPr>
          <a:xfrm>
            <a:off x="1171440" y="1114560"/>
            <a:ext cx="6801120" cy="46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exible Respon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ms build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ntional armed fo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uclear arse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For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strength tempted new administration to challenge U.S.S.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968 Democratic National Conven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war protestors clashed w/ police at Dem. Convention while whole world watch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convention140"/>
          <p:cNvPicPr/>
          <p:nvPr/>
        </p:nvPicPr>
        <p:blipFill>
          <a:blip r:embed="rId1"/>
          <a:stretch/>
        </p:blipFill>
        <p:spPr>
          <a:xfrm>
            <a:off x="5943600" y="2847960"/>
            <a:ext cx="2633760" cy="3705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68-chicago"/>
          <p:cNvPicPr/>
          <p:nvPr/>
        </p:nvPicPr>
        <p:blipFill>
          <a:blip r:embed="rId2"/>
          <a:stretch/>
        </p:blipFill>
        <p:spPr>
          <a:xfrm>
            <a:off x="152280" y="3124080"/>
            <a:ext cx="5486400" cy="3657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68chicago06"/>
          <p:cNvPicPr/>
          <p:nvPr/>
        </p:nvPicPr>
        <p:blipFill>
          <a:blip r:embed="rId3"/>
          <a:stretch/>
        </p:blipFill>
        <p:spPr>
          <a:xfrm>
            <a:off x="4724280" y="380880"/>
            <a:ext cx="3705480" cy="5953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cartoon1"/>
          <p:cNvPicPr/>
          <p:nvPr/>
        </p:nvPicPr>
        <p:blipFill>
          <a:blip r:embed="rId4"/>
          <a:stretch/>
        </p:blipFill>
        <p:spPr>
          <a:xfrm>
            <a:off x="0" y="380880"/>
            <a:ext cx="4156200" cy="609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untercult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of white, middle-class youths disillusioned w/ Vietnam and injustices in 196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ed traditions and experimented with new ways of liv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an in Haight Ashbury, San Francis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just a few yrs. it died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hippies"/>
          <p:cNvPicPr/>
          <p:nvPr/>
        </p:nvPicPr>
        <p:blipFill>
          <a:blip r:embed="rId1"/>
          <a:stretch/>
        </p:blipFill>
        <p:spPr>
          <a:xfrm>
            <a:off x="1276200" y="152280"/>
            <a:ext cx="7486920" cy="56772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haight-ashbury"/>
          <p:cNvPicPr/>
          <p:nvPr/>
        </p:nvPicPr>
        <p:blipFill>
          <a:blip r:embed="rId2"/>
          <a:stretch/>
        </p:blipFill>
        <p:spPr>
          <a:xfrm>
            <a:off x="380880" y="838080"/>
            <a:ext cx="5562720" cy="416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odsto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9 – about 400,000 people gathered to attend this Music and Art Fair in upstate New Y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amont – Rolling Stones concert where much violence occur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d many conservatives to condemn the rejection of traditional morals and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250px-Woodstock_pos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81600" y="228600"/>
            <a:ext cx="3595680" cy="510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CrowdAir"/>
          <p:cNvPicPr/>
          <p:nvPr/>
        </p:nvPicPr>
        <p:blipFill>
          <a:blip r:embed="rId3"/>
          <a:stretch/>
        </p:blipFill>
        <p:spPr>
          <a:xfrm>
            <a:off x="304920" y="533520"/>
            <a:ext cx="4876560" cy="3657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jimi2"/>
          <p:cNvPicPr/>
          <p:nvPr/>
        </p:nvPicPr>
        <p:blipFill>
          <a:blip r:embed="rId4"/>
          <a:stretch/>
        </p:blipFill>
        <p:spPr>
          <a:xfrm>
            <a:off x="1066680" y="2438280"/>
            <a:ext cx="3376800" cy="3990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jani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48360" y="3048120"/>
            <a:ext cx="2509920" cy="3267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3" descr="Photo of The Stones at Altamont ~ 1969"/>
          <p:cNvPicPr/>
          <p:nvPr/>
        </p:nvPicPr>
        <p:blipFill>
          <a:blip r:embed="rId7"/>
          <a:stretch/>
        </p:blipFill>
        <p:spPr>
          <a:xfrm>
            <a:off x="1604880" y="1500120"/>
            <a:ext cx="5934240" cy="385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5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"Black Power"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4–1967: Riots in northern c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e of militant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separat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ed strugg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LK led anti-poverty crus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, 1968: MLK assass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itancy increased African American p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thnic Nationali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e groups emulated African American move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5: 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 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z organized National Farm Workers' Associ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canos won federal mandate for bilingual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men's Liber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3: Friedan'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Feminine Mysti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feminist activ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4 Civil Rights Act used to attack inequality in employ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-choice advocacy on abor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ght to toughen enforcement of rape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72: Congress sent Equal Rights Amendment to th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Return of Richard Nix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8: A year of turm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ial 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ing point in the Vietnam W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protests in the stre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Nixon election demonstrated desire for national reconcili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ietnam Undermines Lyndon Johns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8: Tet Offensive led to conclusion that Vietnam war cannot be w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: Johnson announced he will not seek another term as 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4" descr="DIVI7233675"/>
          <p:cNvPicPr/>
          <p:nvPr/>
        </p:nvPicPr>
        <p:blipFill>
          <a:blip r:embed="rId1"/>
          <a:stretch/>
        </p:blipFill>
        <p:spPr>
          <a:xfrm>
            <a:off x="2286000" y="685800"/>
            <a:ext cx="4705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End of an E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of 1968 ended 30-year era of liberal reform, activist foreign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sought less intrusiv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risis over Berl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1: Khrushchev renewed threat again to give Berlin to East Germa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’s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nounce crisis on nationwide tele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 up the National Gu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viets built Berlin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ainment in Southeast As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saw Southeast Asia as focus of U.S.-Soviet rival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Saigon’s Diem reg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 16,000 American military "advisors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, 1963: Coup against Di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nnedy acce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p further destabilized South Vietn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involvement in Vietnam deepe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Content Placeholder 3" descr="300px-Thích_Quảng_Đức_self-immolation.jpeg"/>
          <p:cNvPicPr/>
          <p:nvPr/>
        </p:nvPicPr>
        <p:blipFill>
          <a:blip r:embed="rId1"/>
          <a:srcRect l="0" t="-5044" r="0" b="-5044"/>
          <a:stretch/>
        </p:blipFill>
        <p:spPr>
          <a:xfrm>
            <a:off x="685800" y="83808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aining Castro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Bay of Pigs Fiasc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supported “anti-Castro forces in ex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y of Pigs invasion a part of 1960 CIA plan under Eisenhow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, 17 1961: Invasion fai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nnedy took responsibility in defiant speech against “communist penetration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>
                <a:alpha val="75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aining Castro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Cuban Missile Cri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ober, 1962: Soviet nuclear missiles confirmed in Cu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ned to blockade, invade Cu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imposed naval blockade, world appeared to be on the brink of nuclear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hrushchev agreed to remove missiles in exchange for public statement that U.S. would not invade Cuba and private assurance that U.S. Jupiter missiles in Turkey would be rem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2:19:30Z</dcterms:created>
  <dc:creator>CMU</dc:creator>
  <dc:description/>
  <cp:keywords/>
  <dc:language>en-US</dc:language>
  <cp:lastModifiedBy>Matthew Myers</cp:lastModifiedBy>
  <cp:lastPrinted>2012-04-19T01:07:11Z</cp:lastPrinted>
  <dcterms:modified xsi:type="dcterms:W3CDTF">2012-04-17T12:33:20Z</dcterms:modified>
  <cp:revision>11</cp:revision>
  <dc:subject/>
  <dc:title>CHAPTER 30 THE TURBULENT SIXTIES</dc:title>
</cp:coreProperties>
</file>